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1BA6-27B8-4C30-A713-393C50636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E6F6-DFAF-4231-BD6E-845E15E21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87E5-FE3A-430E-A3DE-DC192FC55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6974-6DC0-49D5-9EC8-9B122C6C4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5A35-2FC6-45C1-A782-900A2B0CE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EF86-C2D4-4F5C-BD0E-F60F02FDAD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C1DA-491B-45D0-A91F-0D56017C96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15A7-27FB-49BA-B8B5-816E8A185E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55CB-9FDE-4BCC-A3E4-306579865B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9D0B-B9E3-4BB2-B40B-06D2E0DAB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021E-F897-4359-9DF7-F09303EE0D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F453-CDBC-4356-89DE-C29AA73E1C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4A8D-1521-44DF-9F76-AB9F69E264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0203-9F91-4DEF-9796-5A8A336A7B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DF63-8B25-4CD1-B4EB-E53582BDD7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DB8C-6542-4E60-9CBC-D6EC54B060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0552-B7E0-4CD7-A150-B603F4E3FD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5CF4-BEEA-421D-AD75-7C665C46AE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18A-9D9E-4200-B9CD-4E34C24320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5A2-39C1-4F71-8123-B84655A497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5B4-7937-42E4-8074-8C82F92CF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48AD-B46F-4F0C-9C3F-2EC7EABC4A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EF8-A055-427D-A064-29E9ED40D3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454-F9EA-4555-9FD1-2F846B3338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8CC-1F2B-4BAD-A8A4-F3CDF64657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679-D408-4324-89F0-8A3C0782DB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328-F71D-4882-B0A0-BDE906ED11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A9F-01F8-4A27-9D3D-717697894F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3C5-D9D3-4985-948E-DDE71B234F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2BB-9BED-44E6-A990-8F7FE52490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4A3-CACC-4704-B017-F9EF6E6163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AC623-77BF-4766-BFB1-CCA8607F6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BFD1-C9B5-4119-9145-933CD9741E1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4520A-15B4-4306-A140-DEC337664C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F69DC-14D9-47F4-9FDB-CD12B6B4417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6B37D-14AD-47FB-B02F-25A1282478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E4993-8746-448D-B4B6-E0997BBF9B3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55578-F0DE-4491-87F7-16C1D865D0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A1B40-6BBC-48DF-B56B-C874AD5A9BD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41524-4932-4E49-A2A1-EDA8D5B2F0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3BE18-B6BD-4021-92AF-A38CF4CA54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5112C-9E30-4E7D-B36F-0609666014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78CFE-3A31-4449-958B-CE4806D26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3CC9-3C77-4E32-8052-D04E855011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F8559-A0CE-41A0-BF6A-76DD8E5FF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7F3E-2C44-4905-89E5-AA110C1AF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F0AD-EADC-4E27-BC3F-B93132092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0B48-9B47-40E0-8EA2-44050A4A8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BBBC-D1D8-4FC6-82C4-02E183D1023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07DA-7787-448C-A273-CE66EBBA59A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CB18-31C4-4CA8-BC94-32861A7FBF7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D27F-DA24-4316-9093-BE1DD05C0D7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50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498132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6"/>
          <p:cNvSpPr/>
          <p:nvPr/>
        </p:nvSpPr>
        <p:spPr>
          <a:xfrm>
            <a:off x="609480" y="1447920"/>
            <a:ext cx="221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hape styles include preset outline, fill, and effects for the selected char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987480" y="212760"/>
            <a:ext cx="8351640" cy="804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3048120" y="1447920"/>
            <a:ext cx="5867280" cy="482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2" name="TextBox 4"/>
          <p:cNvSpPr/>
          <p:nvPr/>
        </p:nvSpPr>
        <p:spPr>
          <a:xfrm>
            <a:off x="4572000" y="30225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Selected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7"/>
          <p:cNvCxnSpPr/>
          <p:nvPr/>
        </p:nvCxnSpPr>
        <p:spPr>
          <a:xfrm>
            <a:off x="5638680" y="3363840"/>
            <a:ext cx="153360" cy="15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Straight Arrow Connector 9"/>
          <p:cNvCxnSpPr/>
          <p:nvPr/>
        </p:nvCxnSpPr>
        <p:spPr>
          <a:xfrm>
            <a:off x="5105160" y="3363480"/>
            <a:ext cx="1080" cy="9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609480" y="1447920"/>
            <a:ext cx="268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a chart object is selected, you can open its Format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987480" y="212760"/>
            <a:ext cx="8351640" cy="804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3487680" y="1447920"/>
            <a:ext cx="5275440" cy="48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8" name="TextBox 6"/>
          <p:cNvSpPr/>
          <p:nvPr/>
        </p:nvSpPr>
        <p:spPr>
          <a:xfrm>
            <a:off x="1676520" y="4724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rbel"/>
              </a:rPr>
              <a:t>Vertical axis is se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8"/>
          <p:cNvCxnSpPr/>
          <p:nvPr/>
        </p:nvCxnSpPr>
        <p:spPr>
          <a:xfrm flipV="1">
            <a:off x="3124080" y="1980720"/>
            <a:ext cx="534240" cy="2743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Straight Arrow Connector 11"/>
          <p:cNvCxnSpPr/>
          <p:nvPr/>
        </p:nvCxnSpPr>
        <p:spPr>
          <a:xfrm>
            <a:off x="3809880" y="4876560"/>
            <a:ext cx="4579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987480" y="212760"/>
            <a:ext cx="8351640" cy="804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" descr=""/>
          <p:cNvPicPr/>
          <p:nvPr/>
        </p:nvPicPr>
        <p:blipFill>
          <a:blip r:embed="rId2"/>
          <a:srcRect l="12844" t="0" r="0" b="0"/>
          <a:stretch/>
        </p:blipFill>
        <p:spPr>
          <a:xfrm>
            <a:off x="3051000" y="1676520"/>
            <a:ext cx="596268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Text Box 6"/>
          <p:cNvSpPr/>
          <p:nvPr/>
        </p:nvSpPr>
        <p:spPr>
          <a:xfrm>
            <a:off x="533520" y="16192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hart objects can have fill, including gra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914400" y="212760"/>
            <a:ext cx="8352000" cy="8049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685800" y="152388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 addition to the Chart Tools command tabs, you can use the Mini toolbar to format text within a char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3581280" y="1447920"/>
            <a:ext cx="5118120" cy="468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298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003720" cy="1511280"/>
          </a:xfrm>
          <a:prstGeom prst="rect">
            <a:avLst/>
          </a:prstGeom>
          <a:ln w="0">
            <a:noFill/>
          </a:ln>
        </p:spPr>
      </p:pic>
      <p:sp>
        <p:nvSpPr>
          <p:cNvPr id="29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7B1A-E344-40C5-9A8B-3E03061B5B5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8650440" cy="8049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447920" y="274284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a chart aid in analysis of the dat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data should be used to build a meaningful char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type of chart is best for that dat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3520" y="12952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deciding whether to use a chart for your data, consid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chart shee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a chart that is located on its own sheet in the workboo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chart objec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ppears on the same worksheet as the data. It may be called an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embedded char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85392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23880" y="220968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lumn charts show how values change over a period of time or make comparisons among items. They can be prepared with 3-D effects or stacked columns. Categories are on the horizontal axis (x), and values are on the vertical axis (y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"/>
          <p:cNvPicPr/>
          <p:nvPr/>
        </p:nvPicPr>
        <p:blipFill>
          <a:blip r:embed="rId2"/>
          <a:stretch/>
        </p:blipFill>
        <p:spPr>
          <a:xfrm>
            <a:off x="762120" y="1566720"/>
            <a:ext cx="914400" cy="8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1676520" y="206856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ne charts show trends in data over a period of time. They emphasize the rate of change. Lines can be stacked and can show markers, a symbol that indicates a single value. 3-D effects are avail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914400" y="1719360"/>
            <a:ext cx="8730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1882800" y="1981080"/>
            <a:ext cx="66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ie charts show one data series and compare the sizes of each part of a whole. Pie charts should have seven or fewer data points (slices) to be easy to interpret. A pie chart can use 3-D effects and can show exploded sl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13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5C76-1601-4118-861D-A297257F003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47720" y="159696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15" name="Rectangle 6"/>
          <p:cNvSpPr/>
          <p:nvPr/>
        </p:nvSpPr>
        <p:spPr>
          <a:xfrm>
            <a:off x="1662120" y="2054160"/>
            <a:ext cx="7162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ar charts illustrate comparisons among items or show individual figures at a specific time. Categories are on the vertical axis (y). Values are on the horizontal axis (x). The shape can also be a cone, a cylinder, or a pyram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762120" y="157464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18" name="Rectangle 4"/>
          <p:cNvSpPr/>
          <p:nvPr/>
        </p:nvSpPr>
        <p:spPr>
          <a:xfrm>
            <a:off x="1795320" y="2031840"/>
            <a:ext cx="6815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a charts look like colored-in line charts. They show the rate of change and emphasize the magnitude of the change. 3-D effects are avail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>
            <a:off x="1865160" y="2100240"/>
            <a:ext cx="689796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catter charts show relationships between two values, such as money spent on additional advertising and increased sales dollars. Scatter charts do not have a category; both axes show numbers/value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762120" y="164304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22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057040" y="1905120"/>
            <a:ext cx="6705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ock charts are often called “high-low-close charts.” They use three series of data in high, low, close ord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urface charts illustrate optimum combinations of two sets of data. They show two or more series on a surfac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ughnut charts compare the sizes of parts and show the relative proportion of the whole. A doughnut chart can show multiple data series in concentric ring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8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25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2209680" y="1905120"/>
            <a:ext cx="6477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ubble charts compare sets of three values. They are like scatter charts with the third value displayed as the size of the bub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dar charts show the frequency of data relative to a center point and to other data points. There is a separate axis for each category, and each axis extends from the center. Lines connect the values in a se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28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3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DC09-BEDF-4B89-BD71-C4DBA064F74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data sourc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 a chart are the worksheet rows and columns used to build the char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nges made to values or labels within the original data source range are automatically reflected in the char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788184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7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data point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one value (with its label) in the data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4570560" y="1846440"/>
            <a:ext cx="4116240" cy="43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7" name="Oval 3"/>
          <p:cNvSpPr/>
          <p:nvPr/>
        </p:nvSpPr>
        <p:spPr>
          <a:xfrm>
            <a:off x="4800600" y="3429000"/>
            <a:ext cx="20574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1981080" y="3684600"/>
            <a:ext cx="258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he Exhibition Sales label and slice will be added to the pie cha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98320" y="133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y keying another column of values, you can add a second data series to a ch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6473880" cy="374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TextBox 3"/>
          <p:cNvSpPr/>
          <p:nvPr/>
        </p:nvSpPr>
        <p:spPr>
          <a:xfrm>
            <a:off x="5715000" y="2971800"/>
            <a:ext cx="32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rbel"/>
              </a:rPr>
              <a:t>A second set of columns will be added to this chart for the Kallie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6"/>
          <p:cNvSpPr/>
          <p:nvPr/>
        </p:nvSpPr>
        <p:spPr>
          <a:xfrm>
            <a:off x="533520" y="1219320"/>
            <a:ext cx="83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the chart is on a separate sheet, add another column by using the Select Data Source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606564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3"/>
          <a:stretch/>
        </p:blipFill>
        <p:spPr>
          <a:xfrm>
            <a:off x="1685880" y="2133720"/>
            <a:ext cx="447840" cy="447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25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864040" cy="1511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EF06-B8B7-4ACF-BEA7-DCFE664B444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48" name="Title 5" descr=""/>
          <p:cNvPicPr/>
          <p:nvPr/>
        </p:nvPicPr>
        <p:blipFill>
          <a:blip r:embed="rId2"/>
          <a:stretch/>
        </p:blipFill>
        <p:spPr>
          <a:xfrm>
            <a:off x="2951280" y="2749680"/>
            <a:ext cx="6497640" cy="2084400"/>
          </a:xfrm>
          <a:prstGeom prst="rect">
            <a:avLst/>
          </a:prstGeom>
          <a:ln w="0">
            <a:noFill/>
          </a:ln>
        </p:spPr>
      </p:pic>
      <p:sp>
        <p:nvSpPr>
          <p:cNvPr id="34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559C-C505-4A01-B8A0-460485BE418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006560" y="-139680"/>
            <a:ext cx="7991280" cy="132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1219320" y="1981080"/>
            <a:ext cx="701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can use an image, a gradient, or a texture for the fill of a chart shape (the bar, the column, the pie slic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using these types of fills, it is best to use a 2-D chart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6"/>
          <p:cNvSpPr/>
          <p:nvPr/>
        </p:nvSpPr>
        <p:spPr>
          <a:xfrm>
            <a:off x="533520" y="14479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image can be stretched, scaled, or both to fit the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631692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6"/>
          <p:cNvSpPr/>
          <p:nvPr/>
        </p:nvSpPr>
        <p:spPr>
          <a:xfrm>
            <a:off x="457200" y="1676520"/>
            <a:ext cx="2354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gradient is a blend of colors. There are preset gradients, and you can build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2719440" y="1676520"/>
            <a:ext cx="61880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629400" cy="49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6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003720" cy="151128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519D-C93F-410A-A4FF-17D5D7A1AA9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1726200" y="1214280"/>
            <a:ext cx="60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combination chart with two char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590840" y="1752480"/>
            <a:ext cx="6333840" cy="46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6"/>
          <p:cNvSpPr/>
          <p:nvPr/>
        </p:nvSpPr>
        <p:spPr>
          <a:xfrm>
            <a:off x="725400" y="1214280"/>
            <a:ext cx="84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combination chart with two chart types and a secondar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2"/>
          <a:stretch/>
        </p:blipFill>
        <p:spPr>
          <a:xfrm>
            <a:off x="1676520" y="1733400"/>
            <a:ext cx="6402240" cy="466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7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7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C348-EDB7-4437-A2BD-BDBAA041E18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9440" y="1676520"/>
            <a:ext cx="826596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Text Box 6"/>
          <p:cNvSpPr/>
          <p:nvPr/>
        </p:nvSpPr>
        <p:spPr>
          <a:xfrm>
            <a:off x="1574640" y="4819680"/>
            <a:ext cx="65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sparklin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s a mini-chart in its own cell next to the data. Sparklines are objects and can be formatted from the Sparkline Tools Design t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047080" cy="1158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" descr=""/>
          <p:cNvPicPr/>
          <p:nvPr/>
        </p:nvPicPr>
        <p:blipFill>
          <a:blip r:embed="rId2"/>
          <a:stretch/>
        </p:blipFill>
        <p:spPr>
          <a:xfrm>
            <a:off x="2959200" y="1523880"/>
            <a:ext cx="6032520" cy="46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9" name="TextBox 2"/>
          <p:cNvSpPr/>
          <p:nvPr/>
        </p:nvSpPr>
        <p:spPr>
          <a:xfrm>
            <a:off x="533520" y="155412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char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s a visual representation of workshee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294920" y="17524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ts may be objects in a worksheet, or they may be separate chart shee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is linked to the data that it plots. When that data is edited, the chart reflects the chang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includes many individual elements that can be formatted and edi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670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three Charts Tools command tabs: Design, Layout, and Forma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election and Visibility pane aids in selecting and layering objects, such as charts, in a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chart layout specifies where various elements are positioned. The layout can be changed at any ti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0666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ve a chart object by selecting it and dragging it. Size a chart object by dragging one of its selection hand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fter a chart is created, you can add or delete data points and/or an entire data seri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various labels that can be placed on a chart including a title, data labels, axes labels, a legend, or a data t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218960" y="175212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though charts typically use solid color for columns, slices, and bars, you can use images, textures, or gradients to add visual appeal to your char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preset gradients with multiple color stops. You can edit them or create your own gradients by adding and removing color stop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23520" y="175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bination charts have at least two series and use different chart types for each seri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me combination charts use a secondary axis, because the values for data being plotted are disproportiona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arklines are charts within cells. They can use lines or columns to graph a data range on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990720" y="1828800"/>
            <a:ext cx="7619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elected chart is surrounded by a rounded-corner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lection handles appear as three or four dots arranged in a line or triangle shape on the frame b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ource data for the chart is outlined in the worksheet when the chart is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9" descr="214-Fig07-01.png"/>
          <p:cNvPicPr/>
          <p:nvPr/>
        </p:nvPicPr>
        <p:blipFill>
          <a:blip r:embed="rId1"/>
          <a:stretch/>
        </p:blipFill>
        <p:spPr>
          <a:xfrm>
            <a:off x="1474920" y="1320840"/>
            <a:ext cx="670536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Rectangle 2" descr=""/>
          <p:cNvPicPr/>
          <p:nvPr/>
        </p:nvPicPr>
        <p:blipFill>
          <a:blip r:embed="rId2"/>
          <a:stretch/>
        </p:blipFill>
        <p:spPr>
          <a:xfrm>
            <a:off x="871560" y="-648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4963680" y="480384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Selected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4154400" y="25653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Plot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 flipH="1">
            <a:off x="4730760" y="500364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"/>
          <p:cNvSpPr/>
          <p:nvPr/>
        </p:nvSpPr>
        <p:spPr>
          <a:xfrm flipH="1">
            <a:off x="4187880" y="2847960"/>
            <a:ext cx="5335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 flipH="1">
            <a:off x="2209680" y="2793960"/>
            <a:ext cx="1981440" cy="53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548760" y="36576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Selection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3581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Chart layout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termines what objects are included in the char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2" name="Picture 3" descr="214-Fig07-02.png"/>
          <p:cNvPicPr/>
          <p:nvPr/>
        </p:nvPicPr>
        <p:blipFill>
          <a:blip r:embed="rId2"/>
          <a:srcRect l="0" t="0" r="36487" b="0"/>
          <a:stretch/>
        </p:blipFill>
        <p:spPr>
          <a:xfrm>
            <a:off x="4495680" y="1384200"/>
            <a:ext cx="4191120" cy="494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2057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Chart styl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ts the color and effect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2"/>
          <a:stretch/>
        </p:blipFill>
        <p:spPr>
          <a:xfrm>
            <a:off x="2793960" y="161460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277" name="Title 5" descr=""/>
          <p:cNvPicPr/>
          <p:nvPr/>
        </p:nvPicPr>
        <p:blipFill>
          <a:blip r:embed="rId2"/>
          <a:stretch/>
        </p:blipFill>
        <p:spPr>
          <a:xfrm>
            <a:off x="2951280" y="2749680"/>
            <a:ext cx="6387840" cy="198108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BE2C-1E69-4E1C-A80E-5910EAE3048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8:44Z</dcterms:modified>
  <cp:revision>77</cp:revision>
  <dc:subject/>
  <dc:title>Microsoft office</dc:title>
</cp:coreProperties>
</file>